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6BC-AE2A-418F-ADF7-EEAC5D18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F62-D0EC-46D5-A65A-BA96E136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6CF-071E-4E75-A91E-FF13596B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692-4F0A-4CA4-838A-698C7B35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C50-B0B4-4E1F-A348-9CDBFABB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ABB-8977-42B8-9D36-E79A8CB1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923-4102-48F3-A10C-0821334C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05B-6C7A-491B-A9F8-47AD0DD8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EAB-7F84-4E8E-8B76-5D81E5ED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992-BDE0-4BD4-BA63-2F98AABB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3E6-B0D1-498B-8A10-4F4DF50B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FF5-9EE8-495B-8A10-DC7BB57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F166-C035-497E-9C75-D29D50D84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-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it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867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1629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92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51Z</dcterms:created>
  <dc:creator>User</dc:creator>
  <dc:description/>
  <dc:language>en-US</dc:language>
  <cp:lastModifiedBy>User</cp:lastModifiedBy>
  <dcterms:modified xsi:type="dcterms:W3CDTF">2012-02-04T11:08:57Z</dcterms:modified>
  <cp:revision>9</cp:revision>
  <dc:subject/>
  <dc:title>CAPITOLUL 3</dc:title>
</cp:coreProperties>
</file>